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B55-05ED-4DE7-92C9-D1428757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76E-228A-4D8B-8345-ABB93AF6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3AA-9CC3-4C9B-BB54-AB7BD800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31A-4559-4FC6-85D5-BCEC75CC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E3C5-0D95-464C-81AE-49476C8D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4CC3-B3A1-4A6A-82B7-32866703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A160-A11A-48CB-840B-1D279FC1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755E-2E78-4775-9581-DD5D0999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4160-0A03-4F8D-A9F4-3C89229C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CE6D-90D2-4BAD-9F4E-C508D306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1BBF-636E-4269-9083-6CBE3815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7CD-97BA-440A-9C62-11B7911F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6D34-993B-4419-B7FE-C10CB15C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F783-7EEF-4979-9794-FFCD12FE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5B4C-EA43-4170-B4C8-E1AB452E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A3D6-E1B5-41FB-A67A-5CB54DB4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59D6-48D3-476F-B056-FD0E5E0F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28F14-3460-4656-A443-C2886B4B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320B7-8DD6-432D-B924-D861AF19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C74E-C65D-417C-A7DD-9FD5E7A1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55CA-DA7E-4487-B745-7E7F136F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26FC-23C0-4347-85D6-0417D3FA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87B-4591-4A16-AFE9-D9BB9F6E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BC418-3EC0-4A63-8486-D4C59972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7927F-D34E-46E7-B5F6-C7F8AA20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63659-B842-49A9-B59C-6B16B7B0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49E0-244E-4339-AE6F-D183F4F6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02C8-6E03-434F-B124-33215CDE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1F03-A3A7-4438-9D63-CEE93949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FB3C9-E463-4BCA-82C6-7CCC1333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C2679-AEDA-4CEF-B8E6-36CFC1F9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98DC-92DB-426C-84F7-2D6999AE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CABAD-3554-44E4-A6FE-6FE25CA7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F3C-6C35-47BD-B710-55410A56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F1A67-D216-4481-808D-844CE0B7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515C1-8A35-4666-A761-126C47DC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4970-02B4-47D2-ACCB-132D4CE0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22F30-EB1A-41D3-8D62-95C2C19B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05B00-0511-45AF-9D84-E97A6D5B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2E1F8-FA6C-476B-A2D7-C9BDCE75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3DEAF-DAE7-477A-A54C-CF13F128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1808B-A89E-49AC-9CF2-E1155AF1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6FB75-612B-445C-939A-A59DD560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2257A-13E7-407F-A917-2517195F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1FD-167B-438F-A68D-A117925D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37526-AF10-4347-8269-9FDE13C6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1C53D-C7AD-4695-BD38-2B89A152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7EB75-8804-4FB3-ACDE-F35FBD6D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D7FD3-4173-4AEE-BA2F-F6E8819D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65561-D7A9-4CF9-95AD-7FEE6464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F71CA-FFCC-41A1-88B2-D7342ED9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04E2D-1038-481E-9C50-31CA4BDA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1C724-9FB4-4486-A930-4B928282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09262-9F7D-4E05-B429-47784B66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12CC9-F7DB-40A8-99B9-9D991700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77E-B1C1-4504-B541-C5C445EE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3AEAE-FC5A-4A1F-AB5C-D7212FDE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7C356-3084-4D4F-A0ED-55084E60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33798-E70A-45ED-981D-B336EA8C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37A74-6800-47A3-9A92-FF6E421B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01B84-C693-43DF-B516-7FE6A146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CE6C3-31F9-4C7C-B3BE-42E1E73F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CA3E3-5BEA-4425-B35C-597744F8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C68A7-1606-40D6-A5E2-DFCD530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AD604-6594-42CD-B741-F776CFBE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86263-01E8-4B04-B636-1E6AD154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1CA-7B43-4810-A6CF-A855CBF6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1AEB6-E0D7-4D68-B07F-04DDE578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8890E-3E34-4362-9C3E-EFAD9F23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56A1B-0D26-4AB2-A463-C7FD131F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E8882-84DB-4DDB-9983-3D90DC80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89B8F-BB1A-4349-9B79-D4B22F77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44618-FC88-43B0-A348-C42C7CED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13571-0851-44DE-9EAE-C3852E4F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9D49C-A64E-4581-8D27-0EC12A58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C6240-8744-4120-93ED-5589DB01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3BDF3-0304-4870-880D-AE55B6CF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B9C-12DF-4628-8B4E-AE2292A4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13914-A286-43EF-ADF3-7AFAC519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7574D-D9A4-4D5B-A6D6-B0C9201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863E3-5A09-4A80-AB67-720F527C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E4711-8BDF-41CF-8CC2-F2C4D12F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6F6CF-659F-4709-962E-3C20A06D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618-F69D-4B35-A5BC-CAC0E3E2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00D8-E737-4F3A-83EC-33FC79B7704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D635-7AF0-4B3C-8556-24E99DD9E1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4695-E950-4CB6-8351-B8A1215BDB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C699-6934-4E5A-AAB8-CDB88237C83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1C6A-722B-4D75-9567-0A0DEFEACAF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A232-175A-43CD-ADE3-DA971F8CA2B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9B31-2F0E-4AA7-9587-4463AFD909F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y 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, 2011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D 527 Authoring Systems/Instructional Desig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E:\Wilkes\Systems\Pictures\n1349334700_290193_5964830.jpg"/>
          <p:cNvPicPr/>
          <p:nvPr/>
        </p:nvPicPr>
        <p:blipFill>
          <a:blip r:embed="rId2"/>
          <a:stretch/>
        </p:blipFill>
        <p:spPr>
          <a:xfrm>
            <a:off x="1281240" y="1676520"/>
            <a:ext cx="65674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E:\Wilkes\Systems\Pictures\5491_577341096917_26605025_34202937_793271_n.jpg"/>
          <p:cNvPicPr/>
          <p:nvPr/>
        </p:nvPicPr>
        <p:blipFill>
          <a:blip r:embed="rId2"/>
          <a:stretch/>
        </p:blipFill>
        <p:spPr>
          <a:xfrm>
            <a:off x="1146240" y="1600200"/>
            <a:ext cx="6854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6"/>
          <p:cNvGrpSpPr/>
          <p:nvPr/>
        </p:nvGrpSpPr>
        <p:grpSpPr>
          <a:xfrm>
            <a:off x="5791320" y="1981080"/>
            <a:ext cx="2466720" cy="4286520"/>
            <a:chOff x="5791320" y="1981080"/>
            <a:chExt cx="2466720" cy="4286520"/>
          </a:xfrm>
        </p:grpSpPr>
        <p:pic>
          <p:nvPicPr>
            <p:cNvPr id="343" name="Picture 7" descr="E:\Wilkes\Systems\Pictures\Jeep_logo2.jpg"/>
            <p:cNvPicPr/>
            <p:nvPr/>
          </p:nvPicPr>
          <p:blipFill>
            <a:blip r:embed="rId2"/>
            <a:stretch/>
          </p:blipFill>
          <p:spPr>
            <a:xfrm>
              <a:off x="5791320" y="1981080"/>
              <a:ext cx="2324160" cy="17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6" descr="E:\Wilkes\Systems\Pictures\jeep_silver.jpg"/>
            <p:cNvPicPr/>
            <p:nvPr/>
          </p:nvPicPr>
          <p:blipFill>
            <a:blip r:embed="rId3"/>
            <a:stretch/>
          </p:blipFill>
          <p:spPr>
            <a:xfrm>
              <a:off x="5791320" y="4419720"/>
              <a:ext cx="2466720" cy="184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2"/>
          <p:cNvGrpSpPr/>
          <p:nvPr/>
        </p:nvGrpSpPr>
        <p:grpSpPr>
          <a:xfrm>
            <a:off x="838080" y="1600200"/>
            <a:ext cx="2895840" cy="4905360"/>
            <a:chOff x="838080" y="1600200"/>
            <a:chExt cx="2895840" cy="4905360"/>
          </a:xfrm>
        </p:grpSpPr>
        <p:pic>
          <p:nvPicPr>
            <p:cNvPr id="346" name="Picture 3" descr="E:\Wilkes\Systems\Pictures\phillies_logo.gif"/>
            <p:cNvPicPr/>
            <p:nvPr/>
          </p:nvPicPr>
          <p:blipFill>
            <a:blip r:embed="rId4"/>
            <a:stretch/>
          </p:blipFill>
          <p:spPr>
            <a:xfrm>
              <a:off x="838080" y="1600200"/>
              <a:ext cx="2895840" cy="26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2" descr="E:\Wilkes\Systems\Pictures\world series.jpg"/>
            <p:cNvPicPr/>
            <p:nvPr/>
          </p:nvPicPr>
          <p:blipFill>
            <a:blip r:embed="rId5"/>
            <a:stretch/>
          </p:blipFill>
          <p:spPr>
            <a:xfrm>
              <a:off x="1218960" y="4419720"/>
              <a:ext cx="2190960" cy="20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F:\Wilkes\Systems\Pictures\229569_1844744596194_1167999021_31781032_6029642_n.jpg"/>
          <p:cNvPicPr/>
          <p:nvPr/>
        </p:nvPicPr>
        <p:blipFill>
          <a:blip r:embed="rId2"/>
          <a:stretch/>
        </p:blipFill>
        <p:spPr>
          <a:xfrm>
            <a:off x="1143000" y="156204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F:\Wilkes\Systems\Pictures\ku2.jpg"/>
          <p:cNvPicPr/>
          <p:nvPr/>
        </p:nvPicPr>
        <p:blipFill>
          <a:blip r:embed="rId2"/>
          <a:stretch/>
        </p:blipFill>
        <p:spPr>
          <a:xfrm>
            <a:off x="4267080" y="2895480"/>
            <a:ext cx="4146840" cy="2152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F:\Wilkes\Systems\Pictures\AAAblueemblem.JPG"/>
          <p:cNvPicPr/>
          <p:nvPr/>
        </p:nvPicPr>
        <p:blipFill>
          <a:blip r:embed="rId3"/>
          <a:stretch/>
        </p:blipFill>
        <p:spPr>
          <a:xfrm>
            <a:off x="838080" y="2209680"/>
            <a:ext cx="27432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1934 -0.19028 E">
                                      <p:cBhvr>
                                        <p:cTn id="22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F:\Wilkes\Systems\Pictures\ku2.jpg"/>
          <p:cNvPicPr/>
          <p:nvPr/>
        </p:nvPicPr>
        <p:blipFill>
          <a:blip r:embed="rId2"/>
          <a:stretch/>
        </p:blipFill>
        <p:spPr>
          <a:xfrm>
            <a:off x="2819520" y="1581120"/>
            <a:ext cx="2743200" cy="142416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7"/>
          <p:cNvGrpSpPr/>
          <p:nvPr/>
        </p:nvGrpSpPr>
        <p:grpSpPr>
          <a:xfrm>
            <a:off x="5181480" y="2698920"/>
            <a:ext cx="3608640" cy="4082760"/>
            <a:chOff x="5181480" y="2698920"/>
            <a:chExt cx="3608640" cy="4082760"/>
          </a:xfrm>
        </p:grpSpPr>
        <p:pic>
          <p:nvPicPr>
            <p:cNvPr id="311" name="Picture 5" descr="F:\Wilkes\Systems\Pictures\kumu.jpg"/>
            <p:cNvPicPr/>
            <p:nvPr/>
          </p:nvPicPr>
          <p:blipFill>
            <a:blip r:embed="rId3"/>
            <a:srcRect l="0" t="24895" r="0" b="28893"/>
            <a:stretch/>
          </p:blipFill>
          <p:spPr>
            <a:xfrm>
              <a:off x="5546880" y="2698920"/>
              <a:ext cx="3063600" cy="14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" descr="E:\Wilkes\Systems\Pictures\familyday2.jpg"/>
            <p:cNvPicPr/>
            <p:nvPr/>
          </p:nvPicPr>
          <p:blipFill>
            <a:blip r:embed="rId4"/>
            <a:stretch/>
          </p:blipFill>
          <p:spPr>
            <a:xfrm>
              <a:off x="5181480" y="4075560"/>
              <a:ext cx="3608640" cy="270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3" name="Group 6"/>
          <p:cNvGrpSpPr/>
          <p:nvPr/>
        </p:nvGrpSpPr>
        <p:grpSpPr>
          <a:xfrm>
            <a:off x="376200" y="2693880"/>
            <a:ext cx="3281400" cy="4087800"/>
            <a:chOff x="376200" y="2693880"/>
            <a:chExt cx="3281400" cy="4087800"/>
          </a:xfrm>
        </p:grpSpPr>
        <p:pic>
          <p:nvPicPr>
            <p:cNvPr id="314" name="Picture 3" descr="F:\Wilkes\Systems\Pictures\kur_board.jpg"/>
            <p:cNvPicPr/>
            <p:nvPr/>
          </p:nvPicPr>
          <p:blipFill>
            <a:blip r:embed="rId5"/>
            <a:stretch/>
          </p:blipFill>
          <p:spPr>
            <a:xfrm>
              <a:off x="376200" y="4324320"/>
              <a:ext cx="3281400" cy="24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2" descr="F:\Wilkes\Systems\Pictures\kur.jpg"/>
            <p:cNvPicPr/>
            <p:nvPr/>
          </p:nvPicPr>
          <p:blipFill>
            <a:blip r:embed="rId6"/>
            <a:srcRect l="0" t="0" r="0" b="37536"/>
            <a:stretch/>
          </p:blipFill>
          <p:spPr>
            <a:xfrm>
              <a:off x="837720" y="2693880"/>
              <a:ext cx="1689480" cy="1268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F:\Wilkes\Systems\Pictures\building.jpg"/>
          <p:cNvPicPr/>
          <p:nvPr/>
        </p:nvPicPr>
        <p:blipFill>
          <a:blip r:embed="rId2"/>
          <a:stretch/>
        </p:blipFill>
        <p:spPr>
          <a:xfrm>
            <a:off x="2057400" y="1676520"/>
            <a:ext cx="4703760" cy="2057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E:\Wilkes\Systems\Pictures\imagesCANE3T2Y.jpg"/>
          <p:cNvPicPr/>
          <p:nvPr/>
        </p:nvPicPr>
        <p:blipFill>
          <a:blip r:embed="rId3"/>
          <a:stretch/>
        </p:blipFill>
        <p:spPr>
          <a:xfrm>
            <a:off x="5334120" y="4038480"/>
            <a:ext cx="3579840" cy="236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E:\Wilkes\Systems\Pictures\imagesCAYIX0WT.jpg"/>
          <p:cNvPicPr/>
          <p:nvPr/>
        </p:nvPicPr>
        <p:blipFill>
          <a:blip r:embed="rId4"/>
          <a:stretch/>
        </p:blipFill>
        <p:spPr>
          <a:xfrm>
            <a:off x="0" y="3809880"/>
            <a:ext cx="5146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7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E:\Wilkes\Systems\Pictures\30036_128131220534774_100000136894249_345996_5325200_n.jpg"/>
          <p:cNvPicPr/>
          <p:nvPr/>
        </p:nvPicPr>
        <p:blipFill>
          <a:blip r:embed="rId2"/>
          <a:stretch/>
        </p:blipFill>
        <p:spPr>
          <a:xfrm>
            <a:off x="1371600" y="1676520"/>
            <a:ext cx="64008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2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E:\Wilkes\Systems\Pictures\30218_1470455479203_1168084531_1368926_1028147_n.jpg"/>
          <p:cNvPicPr/>
          <p:nvPr/>
        </p:nvPicPr>
        <p:blipFill>
          <a:blip r:embed="rId2"/>
          <a:stretch/>
        </p:blipFill>
        <p:spPr>
          <a:xfrm>
            <a:off x="1270080" y="1752480"/>
            <a:ext cx="6502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E:\Wilkes\Systems\Pictures\29067_1184422909492_1795847780_374878_1973520_n.jpg"/>
          <p:cNvPicPr/>
          <p:nvPr/>
        </p:nvPicPr>
        <p:blipFill>
          <a:blip r:embed="rId2"/>
          <a:stretch/>
        </p:blipFill>
        <p:spPr>
          <a:xfrm>
            <a:off x="1371600" y="1751040"/>
            <a:ext cx="65530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5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E:\Wilkes\Systems\Pictures\imagesCAPWA3OZ.jpg"/>
          <p:cNvPicPr/>
          <p:nvPr/>
        </p:nvPicPr>
        <p:blipFill>
          <a:blip r:embed="rId2"/>
          <a:stretch/>
        </p:blipFill>
        <p:spPr>
          <a:xfrm>
            <a:off x="2743200" y="1600200"/>
            <a:ext cx="3249720" cy="323388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2"/>
          <p:cNvGrpSpPr/>
          <p:nvPr/>
        </p:nvGrpSpPr>
        <p:grpSpPr>
          <a:xfrm>
            <a:off x="609480" y="3657600"/>
            <a:ext cx="7848720" cy="2857680"/>
            <a:chOff x="609480" y="3657600"/>
            <a:chExt cx="7848720" cy="2857680"/>
          </a:xfrm>
        </p:grpSpPr>
        <p:pic>
          <p:nvPicPr>
            <p:cNvPr id="329" name="Picture 3" descr="E:\Wilkes\Systems\Pictures\332d814.jpg"/>
            <p:cNvPicPr/>
            <p:nvPr/>
          </p:nvPicPr>
          <p:blipFill>
            <a:blip r:embed="rId3"/>
            <a:stretch/>
          </p:blipFill>
          <p:spPr>
            <a:xfrm>
              <a:off x="609480" y="3657600"/>
              <a:ext cx="1625400" cy="16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E:\Wilkes\Systems\Pictures\logo.png"/>
            <p:cNvPicPr/>
            <p:nvPr/>
          </p:nvPicPr>
          <p:blipFill>
            <a:blip r:embed="rId4"/>
            <a:srcRect l="17341" t="8746" r="24872" b="0"/>
            <a:stretch/>
          </p:blipFill>
          <p:spPr>
            <a:xfrm>
              <a:off x="2971800" y="5105520"/>
              <a:ext cx="28195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2" descr="E:\Wilkes\Systems\Pictures\company-logo-nyleve.jpg"/>
            <p:cNvPicPr/>
            <p:nvPr/>
          </p:nvPicPr>
          <p:blipFill>
            <a:blip r:embed="rId5"/>
            <a:stretch/>
          </p:blipFill>
          <p:spPr>
            <a:xfrm>
              <a:off x="6477120" y="3809880"/>
              <a:ext cx="1981080" cy="149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E:\Wilkes\Systems\Pictures\BoyScoutLogo.jpg"/>
          <p:cNvPicPr/>
          <p:nvPr/>
        </p:nvPicPr>
        <p:blipFill>
          <a:blip r:embed="rId2"/>
          <a:stretch/>
        </p:blipFill>
        <p:spPr>
          <a:xfrm>
            <a:off x="3581280" y="1752480"/>
            <a:ext cx="1747800" cy="2019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E:\Wilkes\Systems\Pictures\copy9.jpg"/>
          <p:cNvPicPr/>
          <p:nvPr/>
        </p:nvPicPr>
        <p:blipFill>
          <a:blip r:embed="rId3"/>
          <a:stretch/>
        </p:blipFill>
        <p:spPr>
          <a:xfrm>
            <a:off x="6705720" y="2514600"/>
            <a:ext cx="2141280" cy="2666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E:\Wilkes\Systems\Pictures\assistant-district-commissioner.jpg"/>
          <p:cNvPicPr/>
          <p:nvPr/>
        </p:nvPicPr>
        <p:blipFill>
          <a:blip r:embed="rId4"/>
          <a:stretch/>
        </p:blipFill>
        <p:spPr>
          <a:xfrm>
            <a:off x="228600" y="28195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E:\Wilkes\Systems\Pictures\191_lowwapaneu_pa_s13.jpg"/>
          <p:cNvPicPr/>
          <p:nvPr/>
        </p:nvPicPr>
        <p:blipFill>
          <a:blip r:embed="rId5"/>
          <a:stretch/>
        </p:blipFill>
        <p:spPr>
          <a:xfrm>
            <a:off x="2362320" y="4800600"/>
            <a:ext cx="4346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4:34:04Z</dcterms:created>
  <dc:creator>Administrator</dc:creator>
  <dc:description/>
  <dc:language>en-US</dc:language>
  <cp:lastModifiedBy>Stephen</cp:lastModifiedBy>
  <dcterms:modified xsi:type="dcterms:W3CDTF">2011-05-24T02:44:56Z</dcterms:modified>
  <cp:revision>42</cp:revision>
  <dc:subject/>
  <dc:title>Digital Storytelling Project</dc:title>
</cp:coreProperties>
</file>